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4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874387-9CCC-48F6-B15D-CB21553D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95A342-272E-4C74-A66D-A36735C5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55DA6E8-F11B-484C-88C5-E2FAFC2D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D92DD5-4E04-43E0-9B6A-628725F6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5AF8FF-F552-42DA-9475-788EA6650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6E7E08-670C-4855-8D13-B66003BD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93A786-81DB-4C64-80D5-B4333BA0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65939B-0BF0-4EAF-8215-316009DF1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56008C-0108-49A6-8A45-8E1DC1B8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52325CB-E3C7-4656-8E2A-A6EDE904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8E4D61-9D63-4123-A41F-7F504D8D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72B6BF-E177-4AEC-AD81-F7206C0F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CE04730-05AE-48ED-BF9C-57DE07AA1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C8FA8C-CC6D-4107-8E9D-76096DA4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D66F85-6D6C-42EF-9860-8C5CAED1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27E2926-A5DE-4B78-BA82-5BA61DFA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37C77E-56F3-46E9-92E8-8189A542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BB336C-352B-4883-BDE6-F429524E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015B8FF-1619-4FD9-9C14-8DB4409A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72FE70-970E-4F7D-8F07-058E84AE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42226B-F7C3-4E4D-82AD-AAAE3C03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1CFAEC-74CA-443D-86A1-FB561DEE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36A754-8DB3-47F5-B748-E13C6359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01CBD8-3B6C-4C66-9584-6BB33AB4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F2AA62-2E8B-4F0A-89AC-8D60208B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EFC399-8367-42B4-807A-42CCEB06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4D3C91-D785-484C-B820-C9E14246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A4739E-3C09-4A5C-8112-47B662AE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NASA"/>
          <p:cNvPicPr/>
          <p:nvPr/>
        </p:nvPicPr>
        <p:blipFill>
          <a:blip r:embed="rId2"/>
          <a:stretch/>
        </p:blipFill>
        <p:spPr>
          <a:xfrm>
            <a:off x="8534520" y="6302520"/>
            <a:ext cx="561960" cy="47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Proliferation of Metadata Standards and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Evolution of NASA’s Global Change Master Directory (GCMD) Standard for Uses in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arth Science Data Discover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44197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anping Mao &amp; GCMD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9-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182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F Population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20920" y="6248520"/>
            <a:ext cx="8031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lds over 19,000 metadata records (&gt; 20 petabytes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ATS_TOTAL_DIFS.png"/>
          <p:cNvPicPr/>
          <p:nvPr/>
        </p:nvPicPr>
        <p:blipFill>
          <a:blip r:embed="rId1"/>
          <a:stretch/>
        </p:blipFill>
        <p:spPr>
          <a:xfrm>
            <a:off x="685800" y="838080"/>
            <a:ext cx="7391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F Population by Earth Science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IF_POP.PNG"/>
          <p:cNvPicPr/>
          <p:nvPr/>
        </p:nvPicPr>
        <p:blipFill>
          <a:blip r:embed="rId1"/>
          <a:stretch/>
        </p:blipFill>
        <p:spPr>
          <a:xfrm>
            <a:off x="533520" y="1066680"/>
            <a:ext cx="79675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40120" y="380880"/>
            <a:ext cx="65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arches by Controlled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F_SEARCH.PNG"/>
          <p:cNvPicPr/>
          <p:nvPr/>
        </p:nvPicPr>
        <p:blipFill>
          <a:blip r:embed="rId1"/>
          <a:stretch/>
        </p:blipFill>
        <p:spPr>
          <a:xfrm>
            <a:off x="685800" y="1143000"/>
            <a:ext cx="7699320" cy="5334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457200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4/2000 – 12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6"/>
          <p:cNvCxnSpPr/>
          <p:nvPr/>
        </p:nvCxnSpPr>
        <p:spPr>
          <a:xfrm flipV="1">
            <a:off x="3962520" y="579096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IP DIFs in GCM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Picture 2" descr="ESIP_DIF_POP.png"/>
          <p:cNvPicPr/>
          <p:nvPr/>
        </p:nvPicPr>
        <p:blipFill>
          <a:blip r:embed="rId1"/>
          <a:stretch/>
        </p:blipFill>
        <p:spPr>
          <a:xfrm>
            <a:off x="685800" y="1447920"/>
            <a:ext cx="7218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CMD Overview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NASA and NASA’s 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OSDI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I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CEOS/IDN, FGDC/CSD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143000" y="1752480"/>
            <a:ext cx="6886440" cy="678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online catalo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or descrip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SA’s space and Earth science data sets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447920" y="3124080"/>
            <a:ext cx="640080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etadata discovery sys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rth science data and data-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7"/>
          <p:cNvSpPr/>
          <p:nvPr/>
        </p:nvSpPr>
        <p:spPr>
          <a:xfrm>
            <a:off x="4114800" y="2514600"/>
            <a:ext cx="53352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1828800" y="101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GCMD and What’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Home_Page.JPG"/>
          <p:cNvPicPr/>
          <p:nvPr/>
        </p:nvPicPr>
        <p:blipFill>
          <a:blip r:embed="rId1"/>
          <a:stretch/>
        </p:blipFill>
        <p:spPr>
          <a:xfrm>
            <a:off x="1143000" y="762120"/>
            <a:ext cx="7238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ortals2a.jpg"/>
          <p:cNvPicPr/>
          <p:nvPr/>
        </p:nvPicPr>
        <p:blipFill>
          <a:blip r:embed="rId1"/>
          <a:stretch/>
        </p:blipFill>
        <p:spPr>
          <a:xfrm>
            <a:off x="822240" y="279360"/>
            <a:ext cx="7026480" cy="642456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6400800" y="1600200"/>
            <a:ext cx="3049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3124080" y="1981080"/>
            <a:ext cx="304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"/>
          <p:cNvSpPr/>
          <p:nvPr/>
        </p:nvSpPr>
        <p:spPr>
          <a:xfrm>
            <a:off x="4191120" y="2209680"/>
            <a:ext cx="4572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3"/>
          <p:cNvSpPr/>
          <p:nvPr/>
        </p:nvSpPr>
        <p:spPr>
          <a:xfrm>
            <a:off x="3276720" y="3124080"/>
            <a:ext cx="3045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5"/>
          <p:cNvSpPr/>
          <p:nvPr/>
        </p:nvSpPr>
        <p:spPr>
          <a:xfrm>
            <a:off x="2895480" y="350532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8"/>
          <p:cNvSpPr/>
          <p:nvPr/>
        </p:nvSpPr>
        <p:spPr>
          <a:xfrm>
            <a:off x="4876920" y="5410080"/>
            <a:ext cx="5331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7238880" y="3505320"/>
            <a:ext cx="3049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portals1a.jpg"/>
          <p:cNvPicPr/>
          <p:nvPr/>
        </p:nvPicPr>
        <p:blipFill>
          <a:blip r:embed="rId1"/>
          <a:stretch/>
        </p:blipFill>
        <p:spPr>
          <a:xfrm>
            <a:off x="822240" y="154080"/>
            <a:ext cx="7178760" cy="656424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3"/>
          <p:cNvSpPr/>
          <p:nvPr/>
        </p:nvSpPr>
        <p:spPr>
          <a:xfrm>
            <a:off x="5334120" y="3429000"/>
            <a:ext cx="4572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4"/>
          <p:cNvSpPr/>
          <p:nvPr/>
        </p:nvSpPr>
        <p:spPr>
          <a:xfrm>
            <a:off x="3200400" y="35812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"/>
          <p:cNvSpPr/>
          <p:nvPr/>
        </p:nvSpPr>
        <p:spPr>
          <a:xfrm>
            <a:off x="6172200" y="190512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6"/>
          <p:cNvSpPr/>
          <p:nvPr/>
        </p:nvSpPr>
        <p:spPr>
          <a:xfrm>
            <a:off x="2590920" y="1905120"/>
            <a:ext cx="3045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8"/>
          <p:cNvGraphicFramePr/>
          <p:nvPr/>
        </p:nvGraphicFramePr>
        <p:xfrm>
          <a:off x="154080" y="1224000"/>
          <a:ext cx="8807400" cy="49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224000"/>
                    <a:ext cx="88074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11"/>
          <p:cNvSpPr/>
          <p:nvPr/>
        </p:nvSpPr>
        <p:spPr>
          <a:xfrm>
            <a:off x="2111760" y="30492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W Stats – Total H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"/>
          <p:cNvCxnSpPr/>
          <p:nvPr/>
        </p:nvCxnSpPr>
        <p:spPr>
          <a:xfrm>
            <a:off x="7772400" y="2590920"/>
            <a:ext cx="3816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1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8016840" cy="5218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1566000" y="304920"/>
            <a:ext cx="61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W Stats – Unique Vis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4360" y="685800"/>
          <a:ext cx="8424720" cy="3370320"/>
        </p:xfrm>
        <a:graphic>
          <a:graphicData uri="http://schemas.openxmlformats.org/drawingml/2006/table">
            <a:tbl>
              <a:tblPr/>
              <a:tblGrid>
                <a:gridCol w="752400"/>
                <a:gridCol w="1152720"/>
                <a:gridCol w="1150920"/>
                <a:gridCol w="1152360"/>
                <a:gridCol w="1152720"/>
                <a:gridCol w="1155600"/>
                <a:gridCol w="190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OSCOP/CS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R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NZLI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D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C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GDC/CSDG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ID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D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SO19115/ NAP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92"/>
          <p:cNvSpPr/>
          <p:nvPr/>
        </p:nvSpPr>
        <p:spPr>
          <a:xfrm>
            <a:off x="1371600" y="6095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3"/>
          <p:cNvSpPr/>
          <p:nvPr/>
        </p:nvSpPr>
        <p:spPr>
          <a:xfrm>
            <a:off x="457200" y="4114800"/>
            <a:ext cx="9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1960           1970            1980           1990           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4"/>
          <p:cNvSpPr/>
          <p:nvPr/>
        </p:nvSpPr>
        <p:spPr>
          <a:xfrm>
            <a:off x="457200" y="762120"/>
            <a:ext cx="647712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5"/>
          <p:cNvSpPr/>
          <p:nvPr/>
        </p:nvSpPr>
        <p:spPr>
          <a:xfrm>
            <a:off x="1143000" y="1066680"/>
            <a:ext cx="5791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6"/>
          <p:cNvSpPr/>
          <p:nvPr/>
        </p:nvSpPr>
        <p:spPr>
          <a:xfrm>
            <a:off x="3048120" y="1447920"/>
            <a:ext cx="388620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7"/>
          <p:cNvSpPr/>
          <p:nvPr/>
        </p:nvSpPr>
        <p:spPr>
          <a:xfrm>
            <a:off x="3124080" y="1752480"/>
            <a:ext cx="38102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8"/>
          <p:cNvSpPr/>
          <p:nvPr/>
        </p:nvSpPr>
        <p:spPr>
          <a:xfrm>
            <a:off x="3581280" y="2133720"/>
            <a:ext cx="335304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9"/>
          <p:cNvSpPr/>
          <p:nvPr/>
        </p:nvSpPr>
        <p:spPr>
          <a:xfrm>
            <a:off x="3886200" y="2438280"/>
            <a:ext cx="3048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0"/>
          <p:cNvSpPr/>
          <p:nvPr/>
        </p:nvSpPr>
        <p:spPr>
          <a:xfrm>
            <a:off x="4038480" y="3124080"/>
            <a:ext cx="28958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1"/>
          <p:cNvSpPr/>
          <p:nvPr/>
        </p:nvSpPr>
        <p:spPr>
          <a:xfrm>
            <a:off x="3886200" y="2743200"/>
            <a:ext cx="304812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2"/>
          <p:cNvSpPr/>
          <p:nvPr/>
        </p:nvSpPr>
        <p:spPr>
          <a:xfrm>
            <a:off x="4038480" y="3429000"/>
            <a:ext cx="289584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3"/>
          <p:cNvSpPr/>
          <p:nvPr/>
        </p:nvSpPr>
        <p:spPr>
          <a:xfrm>
            <a:off x="4952880" y="3809880"/>
            <a:ext cx="19814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4"/>
          <p:cNvSpPr/>
          <p:nvPr/>
        </p:nvSpPr>
        <p:spPr>
          <a:xfrm>
            <a:off x="685800" y="1522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5"/>
          <p:cNvSpPr/>
          <p:nvPr/>
        </p:nvSpPr>
        <p:spPr>
          <a:xfrm>
            <a:off x="762120" y="106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tadata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6"/>
          <p:cNvSpPr/>
          <p:nvPr/>
        </p:nvSpPr>
        <p:spPr>
          <a:xfrm>
            <a:off x="0" y="44956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60: ROSCOP/CSR (Report of Observations/Samples collected by Oceanographic Programmes Cruise Summary Re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70: MARC (Machine-Readable Catalog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86: Australia New Zealand Land Information Council (ANZ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1988: Directory Interchange Format (DIF)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1: European Directory of Marine Environmental Datasets (EDME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4: Dublin Core Metadata Initiative (DC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4: US Federal Geographic Data Committee (FGDC) Content Standard for Digital Geospatial Metadata (CSDG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995: Directory Information Describing Geo-referenced Datasets (DID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001: NOAA/NODC Electronic Data Description Format (ED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003: ISO-19115 Geographic Information Metadata International Standard &gt; ISO North American Profile (N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26"/>
          <p:cNvSpPr/>
          <p:nvPr/>
        </p:nvSpPr>
        <p:spPr>
          <a:xfrm>
            <a:off x="0" y="1062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Map/Date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027"/>
          <p:cNvGrpSpPr/>
          <p:nvPr/>
        </p:nvGrpSpPr>
        <p:grpSpPr>
          <a:xfrm>
            <a:off x="685800" y="1219320"/>
            <a:ext cx="7543080" cy="5409720"/>
            <a:chOff x="685800" y="1219320"/>
            <a:chExt cx="7543080" cy="5409720"/>
          </a:xfrm>
        </p:grpSpPr>
        <p:pic>
          <p:nvPicPr>
            <p:cNvPr id="153" name="Picture 1028" descr=""/>
            <p:cNvPicPr/>
            <p:nvPr/>
          </p:nvPicPr>
          <p:blipFill>
            <a:blip r:embed="rId1"/>
            <a:srcRect l="4936" t="2855" r="7064" b="4069"/>
            <a:stretch/>
          </p:blipFill>
          <p:spPr>
            <a:xfrm>
              <a:off x="685800" y="1219320"/>
              <a:ext cx="7519680" cy="54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29" descr=""/>
            <p:cNvPicPr/>
            <p:nvPr/>
          </p:nvPicPr>
          <p:blipFill>
            <a:blip r:embed="rId2"/>
            <a:stretch/>
          </p:blipFill>
          <p:spPr>
            <a:xfrm>
              <a:off x="6516720" y="3153960"/>
              <a:ext cx="155808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030" descr=""/>
            <p:cNvPicPr/>
            <p:nvPr/>
          </p:nvPicPr>
          <p:blipFill>
            <a:blip r:embed="rId3"/>
            <a:srcRect l="7179" t="39081" r="76673" b="20103"/>
            <a:stretch/>
          </p:blipFill>
          <p:spPr>
            <a:xfrm>
              <a:off x="712080" y="2513160"/>
              <a:ext cx="1444320" cy="263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031"/>
            <p:cNvSpPr/>
            <p:nvPr/>
          </p:nvSpPr>
          <p:spPr>
            <a:xfrm>
              <a:off x="685800" y="5149440"/>
              <a:ext cx="1380600" cy="321120"/>
            </a:xfrm>
            <a:prstGeom prst="rect">
              <a:avLst/>
            </a:prstGeom>
            <a:solidFill>
              <a:srgbClr val="e8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32"/>
            <p:cNvSpPr/>
            <p:nvPr/>
          </p:nvSpPr>
          <p:spPr>
            <a:xfrm>
              <a:off x="685800" y="1221480"/>
              <a:ext cx="7543080" cy="5403600"/>
            </a:xfrm>
            <a:prstGeom prst="rect">
              <a:avLst/>
            </a:prstGeom>
            <a:noFill/>
            <a:ln w="38160">
              <a:solidFill>
                <a:srgbClr val="448e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33"/>
          <p:cNvSpPr/>
          <p:nvPr/>
        </p:nvSpPr>
        <p:spPr>
          <a:xfrm>
            <a:off x="1600200" y="6858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bines Spatial, Temporal &amp; Full-Tex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447920" y="45720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ry Refinement Exam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640" y="1371600"/>
            <a:ext cx="6217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ry by Science Key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mosphere &gt; Air Quality &gt; Carbon Dioxi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Atmosphere"/>
          <p:cNvPicPr/>
          <p:nvPr/>
        </p:nvPicPr>
        <p:blipFill>
          <a:blip r:embed="rId1"/>
          <a:stretch/>
        </p:blipFill>
        <p:spPr>
          <a:xfrm>
            <a:off x="380880" y="2362320"/>
            <a:ext cx="3962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Oval 12"/>
          <p:cNvSpPr/>
          <p:nvPr/>
        </p:nvSpPr>
        <p:spPr>
          <a:xfrm>
            <a:off x="228600" y="4191120"/>
            <a:ext cx="2209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O2-1.jpg"/>
          <p:cNvPicPr/>
          <p:nvPr/>
        </p:nvPicPr>
        <p:blipFill>
          <a:blip r:embed="rId2"/>
          <a:stretch/>
        </p:blipFill>
        <p:spPr>
          <a:xfrm>
            <a:off x="4495680" y="2362320"/>
            <a:ext cx="4270320" cy="3733560"/>
          </a:xfrm>
          <a:prstGeom prst="rect">
            <a:avLst/>
          </a:prstGeom>
          <a:ln w="0">
            <a:noFill/>
          </a:ln>
        </p:spPr>
      </p:pic>
      <p:sp>
        <p:nvSpPr>
          <p:cNvPr id="164" name="Oval 13"/>
          <p:cNvSpPr/>
          <p:nvPr/>
        </p:nvSpPr>
        <p:spPr>
          <a:xfrm>
            <a:off x="4419720" y="4648320"/>
            <a:ext cx="12952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523880" y="5335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ry Refinement 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-52560" y="1523880"/>
            <a:ext cx="43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fine b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b9150e"/>
                </a:solidFill>
                <a:latin typeface="Tahoma"/>
              </a:rPr>
              <a:t>Project [ESIP]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67400" y="152388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2362320" y="46483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CO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334040" cy="4038480"/>
          </a:xfrm>
          <a:prstGeom prst="rect">
            <a:avLst/>
          </a:prstGeom>
          <a:ln w="0">
            <a:noFill/>
          </a:ln>
        </p:spPr>
      </p:pic>
      <p:sp>
        <p:nvSpPr>
          <p:cNvPr id="170" name="Oval 11"/>
          <p:cNvSpPr/>
          <p:nvPr/>
        </p:nvSpPr>
        <p:spPr>
          <a:xfrm>
            <a:off x="4419720" y="3657600"/>
            <a:ext cx="4343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CO2-2.jpg"/>
          <p:cNvPicPr/>
          <p:nvPr/>
        </p:nvPicPr>
        <p:blipFill>
          <a:blip r:embed="rId2"/>
          <a:stretch/>
        </p:blipFill>
        <p:spPr>
          <a:xfrm>
            <a:off x="69840" y="2133720"/>
            <a:ext cx="4357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9"/>
          <p:cNvSpPr/>
          <p:nvPr/>
        </p:nvSpPr>
        <p:spPr>
          <a:xfrm>
            <a:off x="2209680" y="1523880"/>
            <a:ext cx="457200" cy="228600"/>
          </a:xfrm>
          <a:prstGeom prst="ellipse">
            <a:avLst/>
          </a:prstGeom>
          <a:noFill/>
          <a:ln w="38160">
            <a:solidFill>
              <a:srgbClr val="b91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CO2-5.jpg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a SERF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5" name="Picture 4" descr="SERF"/>
          <p:cNvPicPr/>
          <p:nvPr/>
        </p:nvPicPr>
        <p:blipFill>
          <a:blip r:embed="rId1"/>
          <a:stretch/>
        </p:blipFill>
        <p:spPr>
          <a:xfrm>
            <a:off x="380880" y="990720"/>
            <a:ext cx="8352000" cy="2743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784872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F (Service Entry Resource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Earth science related tools, software, and ser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direct links to analysis, visualization, and processing software; online programs; and geospatial web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between services and associated data set descri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RF Population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SERF_POP.PNG"/>
          <p:cNvPicPr/>
          <p:nvPr/>
        </p:nvPicPr>
        <p:blipFill>
          <a:blip r:embed="rId1"/>
          <a:stretch/>
        </p:blipFill>
        <p:spPr>
          <a:xfrm>
            <a:off x="442800" y="1362240"/>
            <a:ext cx="80377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RF Population by Service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SERF_TOPIC.PNG"/>
          <p:cNvPicPr/>
          <p:nvPr/>
        </p:nvPicPr>
        <p:blipFill>
          <a:blip r:embed="rId1"/>
          <a:stretch/>
        </p:blipFill>
        <p:spPr>
          <a:xfrm>
            <a:off x="844560" y="1281240"/>
            <a:ext cx="761364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IP SERFs in GCM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2" name="Picture 2" descr="ESIP_SERF_POP.png"/>
          <p:cNvPicPr/>
          <p:nvPr/>
        </p:nvPicPr>
        <p:blipFill>
          <a:blip r:embed="rId1"/>
          <a:stretch/>
        </p:blipFill>
        <p:spPr>
          <a:xfrm>
            <a:off x="533520" y="1219320"/>
            <a:ext cx="77724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371808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52280" y="1600200"/>
            <a:ext cx="182880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100 DIF in the prototype NMD databas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480" y="31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895480" y="31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12408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057400" y="15238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 was formally approved and adopted by a CI science advisory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172200" y="31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876920" y="152388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OS Data Working Group (DWG) began attending the CI Workshop meetings and provided valuable feedback on the DIF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371600" y="609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71808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77" name="Line 5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52280" y="167652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GDMGC adopted the directory as a prototype to facilitate global change re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85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19112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048120" y="167652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MD was renamed the GCMD for its Earth sciences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88620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562720" y="1676520"/>
            <a:ext cx="32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CMD was selected to serve as NASA's FGDC Clearinghouse node for geospatial meta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723888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934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44792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371808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2280" y="1600200"/>
            <a:ext cx="221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ed ISO 19115/TC211 geospatial metadata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94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809880" y="35053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5812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743200" y="1905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 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029200" y="16002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 is evolving through input from the use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44792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MCj02403410000[1]"/>
          <p:cNvPicPr/>
          <p:nvPr/>
        </p:nvPicPr>
        <p:blipFill>
          <a:blip r:embed="rId2"/>
          <a:stretch/>
        </p:blipFill>
        <p:spPr>
          <a:xfrm>
            <a:off x="6095880" y="2286000"/>
            <a:ext cx="14446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GCMD Standard for metadata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rectory Interchange 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“controlled vocabulary”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s an intuitive onli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horing to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reating and validating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FGDC and ISO metadata standar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“container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transformer”, XSL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a DIF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7457" t="40689" r="10378" b="10409"/>
          <a:stretch/>
        </p:blipFill>
        <p:spPr>
          <a:xfrm>
            <a:off x="152280" y="1066680"/>
            <a:ext cx="889632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1" name="Title 1"/>
          <p:cNvSpPr/>
          <p:nvPr/>
        </p:nvSpPr>
        <p:spPr>
          <a:xfrm>
            <a:off x="-76320" y="54100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333399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volves to capture additional fields that are useful within the us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14480" y="1066680"/>
            <a:ext cx="8915400" cy="5257800"/>
          </a:xfrm>
          <a:prstGeom prst="rect">
            <a:avLst/>
          </a:prstGeom>
          <a:solidFill>
            <a:srgbClr val="f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53160" y="1944720"/>
            <a:ext cx="1998720" cy="231516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Verdana"/>
                <a:ea typeface="Arial"/>
              </a:rPr>
              <a:t>Requir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ntr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Entry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cience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SO Topic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Metadat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Metadata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908440" y="1604880"/>
            <a:ext cx="2545920" cy="401868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Verdana"/>
                <a:ea typeface="Arial"/>
              </a:rPr>
              <a:t>Recommend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 Set 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Personnel 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(DIF Auth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pati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Access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Use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Related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IF Revision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791320" y="1879560"/>
            <a:ext cx="3124080" cy="328860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Verdana"/>
                <a:ea typeface="Arial"/>
              </a:rPr>
              <a:t>Optional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Key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leo-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 Set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ata Set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Originat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Multimedia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rent 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D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IF Cre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Last DIF Revis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Future DIF Review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6668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IF and FGDC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CSDG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28600" y="4495680"/>
            <a:ext cx="2286000" cy="100656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3300"/>
                </a:solidFill>
                <a:latin typeface="Verdana"/>
                <a:ea typeface="Arial"/>
              </a:rPr>
              <a:t>*Mandatory FGD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  <a:ea typeface="Arial"/>
              </a:rPr>
              <a:t>*Mandatory under certain conditions or optional FGD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52280" y="1066680"/>
            <a:ext cx="8801280" cy="5181840"/>
          </a:xfrm>
          <a:prstGeom prst="rect">
            <a:avLst/>
          </a:prstGeom>
          <a:solidFill>
            <a:srgbClr val="f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2400" y="1841400"/>
            <a:ext cx="2206080" cy="231516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Verdana"/>
                <a:ea typeface="Arial"/>
              </a:rPr>
              <a:t>Requir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Entr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Entry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Science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Arial"/>
              </a:rPr>
              <a:t>*</a:t>
            </a: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ISO Topic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Arial"/>
              </a:rPr>
              <a:t>*</a:t>
            </a:r>
            <a:r>
              <a:rPr b="1" lang="en-US" sz="1600" spc="-1" strike="noStrike">
                <a:solidFill>
                  <a:srgbClr val="ff9933"/>
                </a:solidFill>
                <a:latin typeface="Verdana"/>
                <a:ea typeface="Arial"/>
              </a:rPr>
              <a:t>Metadat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Arial"/>
              </a:rPr>
              <a:t>*</a:t>
            </a:r>
            <a:r>
              <a:rPr b="1" lang="en-US" sz="1600" spc="-1" strike="noStrike">
                <a:solidFill>
                  <a:srgbClr val="ff9933"/>
                </a:solidFill>
                <a:latin typeface="Verdana"/>
                <a:ea typeface="Arial"/>
              </a:rPr>
              <a:t>Metadata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984760" y="1344600"/>
            <a:ext cx="2545920" cy="450540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Verdana"/>
                <a:ea typeface="Arial"/>
              </a:rPr>
              <a:t>Recommended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Set C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set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set Releas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Personnel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 (DIF Auth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Spati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ata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ccess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Use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  <a:ea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Related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IF Revision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791320" y="1957320"/>
            <a:ext cx="3124080" cy="328860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Verdana"/>
                <a:ea typeface="Arial"/>
              </a:rPr>
              <a:t>Optional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Key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leo-Tempor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ata Set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ata Set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riginat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Multimedia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rent 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D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  <a:ea typeface="Arial"/>
              </a:rPr>
              <a:t>DIF Cre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ast DIF Revis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uture DIF Review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" y="4392720"/>
            <a:ext cx="2362320" cy="1189080"/>
          </a:xfrm>
          <a:prstGeom prst="rect">
            <a:avLst/>
          </a:prstGeom>
          <a:solidFill>
            <a:srgbClr val="f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Verdana"/>
                <a:ea typeface="Arial"/>
              </a:rPr>
              <a:t>*Fields added for ISO19115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3300"/>
                </a:solidFill>
                <a:latin typeface="Verdana"/>
                <a:ea typeface="Arial"/>
              </a:rPr>
              <a:t>*Mandatory ISO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  <a:ea typeface="Arial"/>
              </a:rPr>
              <a:t>*Mandatory under certain conditions or optional ISO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66680" y="243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IF and ISO 19115 Core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4:20:55Z</dcterms:created>
  <dc:creator> </dc:creator>
  <dc:description/>
  <dc:language>en-US</dc:language>
  <cp:lastModifiedBy>tstevens</cp:lastModifiedBy>
  <cp:lastPrinted>2007-07-13T18:55:30Z</cp:lastPrinted>
  <dcterms:modified xsi:type="dcterms:W3CDTF">2008-01-16T12:48:18Z</dcterms:modified>
  <cp:revision>267</cp:revision>
  <dc:subject/>
  <dc:title>Metadata Standards In The GCMD</dc:title>
</cp:coreProperties>
</file>